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DB0-C800-4A07-B703-C27493F3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FA9-A571-4C9A-88F0-4F032013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437-83A7-4BEE-9767-DCC9D305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2A5-969A-40FE-B7C0-21DA86C3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3101-BCFD-4F38-BD05-AA51438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049-F0FB-497A-86CD-8D6A8D5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C564-694E-4A7F-B4EF-1913136D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D8AC-F0DF-4343-A849-85E77A50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448-A293-42BF-B7CB-8EBAC5EE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CF5-9DDA-4A1C-BC97-CE9D0CEE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7AD-18D1-4F93-A11E-3775628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FF6-758A-4172-97D7-85472B2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33D4-8EB6-4F86-9BE5-CC597734D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8.png"/><Relationship Id="rId8" Type="http://schemas.openxmlformats.org/officeDocument/2006/relationships/image" Target="../media/image19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image" Target="../media/image16.wmf"/><Relationship Id="rId16" Type="http://schemas.openxmlformats.org/officeDocument/2006/relationships/image" Target="../media/image16.wmf"/><Relationship Id="rId17" Type="http://schemas.openxmlformats.org/officeDocument/2006/relationships/image" Target="../media/image14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280880" cy="1681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1835280" cy="157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654200" cy="18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029200" y="3048120"/>
            <a:ext cx="1873080" cy="94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238880" y="2666880"/>
            <a:ext cx="1538280" cy="150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410080" y="5257800"/>
            <a:ext cx="1219320" cy="1170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135920" y="4876920"/>
            <a:ext cx="2008080" cy="162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1981080" y="457200"/>
            <a:ext cx="1560600" cy="1658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981080" y="2590920"/>
            <a:ext cx="1500480" cy="19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228600" y="2590920"/>
            <a:ext cx="1460520" cy="17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228600" y="5105520"/>
            <a:ext cx="1401840" cy="133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2133720" y="4952880"/>
            <a:ext cx="18176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1584360" cy="154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413080" y="549360"/>
            <a:ext cx="648000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’ai un chat, Hanni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1268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u as un anim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198900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le a un ch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2708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us avons des poi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350028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vous avez des l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429264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les ont deux serpents l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1280" y="5013360"/>
            <a:ext cx="648036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j’ai un lap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4920" y="189000"/>
            <a:ext cx="3527280" cy="1689120"/>
            <a:chOff x="-34920" y="189000"/>
            <a:chExt cx="3527280" cy="1689120"/>
          </a:xfrm>
        </p:grpSpPr>
        <p:grpSp>
          <p:nvGrpSpPr>
            <p:cNvPr id="62" name=""/>
            <p:cNvGrpSpPr/>
            <p:nvPr/>
          </p:nvGrpSpPr>
          <p:grpSpPr>
            <a:xfrm>
              <a:off x="-34920" y="189000"/>
              <a:ext cx="3400560" cy="1689120"/>
              <a:chOff x="-34920" y="189000"/>
              <a:chExt cx="3400560" cy="168912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-34920" y="189000"/>
                <a:ext cx="1498680" cy="16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476360" y="404640"/>
                <a:ext cx="1889280" cy="1144800"/>
              </a:xfrm>
              <a:prstGeom prst="wedgeRoundRectCallout">
                <a:avLst>
                  <a:gd name="adj1" fmla="val -77564"/>
                  <a:gd name="adj2" fmla="val 52634"/>
                  <a:gd name="adj3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Hannib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2597040" y="404640"/>
              <a:ext cx="895320" cy="115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780000" y="404640"/>
            <a:ext cx="3429000" cy="1124280"/>
            <a:chOff x="3780000" y="404640"/>
            <a:chExt cx="3429000" cy="1124280"/>
          </a:xfrm>
        </p:grpSpPr>
        <p:sp>
          <p:nvSpPr>
            <p:cNvPr id="69" name=""/>
            <p:cNvSpPr/>
            <p:nvPr/>
          </p:nvSpPr>
          <p:spPr>
            <a:xfrm>
              <a:off x="3780000" y="404640"/>
              <a:ext cx="3429000" cy="1124280"/>
            </a:xfrm>
            <a:prstGeom prst="wedgeRoundRectCallout">
              <a:avLst>
                <a:gd name="adj1" fmla="val -59370"/>
                <a:gd name="adj2" fmla="val 9836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</a:t>
              </a:r>
              <a:r>
                <a:rPr b="0" lang="en-US" sz="7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698400" cy="800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4822920" y="620640"/>
            <a:ext cx="828720" cy="704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22920" y="620640"/>
                      <a:ext cx="82872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651640" y="620640"/>
            <a:ext cx="847800" cy="714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651640" y="620640"/>
                      <a:ext cx="847800" cy="7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7524720" y="0"/>
            <a:ext cx="1371600" cy="194328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468360" y="2492280"/>
            <a:ext cx="3709800" cy="1408320"/>
            <a:chOff x="468360" y="2492280"/>
            <a:chExt cx="3709800" cy="1408320"/>
          </a:xfrm>
        </p:grpSpPr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468360" y="2781360"/>
              <a:ext cx="95256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0"/>
            <a:stretch/>
          </p:blipFill>
          <p:spPr>
            <a:xfrm>
              <a:off x="1405080" y="2781360"/>
              <a:ext cx="9525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395440" y="2492280"/>
              <a:ext cx="1782720" cy="14083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1"/>
            <a:stretch/>
          </p:blipFill>
          <p:spPr>
            <a:xfrm>
              <a:off x="2556000" y="2565360"/>
              <a:ext cx="1473120" cy="120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"/>
          <p:cNvGrpSpPr/>
          <p:nvPr/>
        </p:nvGrpSpPr>
        <p:grpSpPr>
          <a:xfrm>
            <a:off x="5003640" y="2492280"/>
            <a:ext cx="3429000" cy="1548000"/>
            <a:chOff x="5003640" y="2492280"/>
            <a:chExt cx="3429000" cy="1548000"/>
          </a:xfrm>
        </p:grpSpPr>
        <p:sp>
          <p:nvSpPr>
            <p:cNvPr id="82" name=""/>
            <p:cNvSpPr/>
            <p:nvPr/>
          </p:nvSpPr>
          <p:spPr>
            <a:xfrm>
              <a:off x="5003640" y="2492280"/>
              <a:ext cx="3429000" cy="15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GB" sz="7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2"/>
            <a:stretch/>
          </p:blipFill>
          <p:spPr>
            <a:xfrm>
              <a:off x="5148000" y="2781360"/>
              <a:ext cx="12700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13"/>
            <a:stretch/>
          </p:blipFill>
          <p:spPr>
            <a:xfrm>
              <a:off x="6514920" y="2709720"/>
              <a:ext cx="1269720" cy="105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395280" y="4941720"/>
            <a:ext cx="3938400" cy="1067040"/>
            <a:chOff x="395280" y="4941720"/>
            <a:chExt cx="3938400" cy="1067040"/>
          </a:xfrm>
        </p:grpSpPr>
        <p:pic>
          <p:nvPicPr>
            <p:cNvPr id="86" name="" descr=""/>
            <p:cNvPicPr/>
            <p:nvPr/>
          </p:nvPicPr>
          <p:blipFill>
            <a:blip r:embed="rId14"/>
            <a:stretch/>
          </p:blipFill>
          <p:spPr>
            <a:xfrm>
              <a:off x="395280" y="4941720"/>
              <a:ext cx="190476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195280" y="5300640"/>
              <a:ext cx="685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5"/>
            <a:stretch/>
          </p:blipFill>
          <p:spPr>
            <a:xfrm>
              <a:off x="2914560" y="5084640"/>
              <a:ext cx="6984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16"/>
            <a:stretch/>
          </p:blipFill>
          <p:spPr>
            <a:xfrm>
              <a:off x="3635280" y="5076720"/>
              <a:ext cx="698400" cy="80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"/>
          <p:cNvGrpSpPr/>
          <p:nvPr/>
        </p:nvGrpSpPr>
        <p:grpSpPr>
          <a:xfrm>
            <a:off x="5219640" y="4437000"/>
            <a:ext cx="3184560" cy="2141640"/>
            <a:chOff x="5219640" y="4437000"/>
            <a:chExt cx="3184560" cy="2141640"/>
          </a:xfrm>
        </p:grpSpPr>
        <p:pic>
          <p:nvPicPr>
            <p:cNvPr id="91" name="" descr=""/>
            <p:cNvPicPr/>
            <p:nvPr/>
          </p:nvPicPr>
          <p:blipFill>
            <a:blip r:embed="rId17"/>
            <a:stretch/>
          </p:blipFill>
          <p:spPr>
            <a:xfrm>
              <a:off x="5219640" y="4437000"/>
              <a:ext cx="149868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804000" y="4869000"/>
              <a:ext cx="1600200" cy="1709640"/>
            </a:xfrm>
            <a:prstGeom prst="wedgeRoundRectCallout">
              <a:avLst>
                <a:gd name="adj1" fmla="val -93055"/>
                <a:gd name="adj2" fmla="val 1128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8"/>
            <a:stretch/>
          </p:blipFill>
          <p:spPr>
            <a:xfrm>
              <a:off x="6948360" y="4941720"/>
              <a:ext cx="1308240" cy="148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1258920" y="170028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5280" y="162864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36000" y="1484280"/>
            <a:ext cx="57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386064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3068640"/>
            <a:ext cx="576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6920" y="611820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0360" y="6237360"/>
            <a:ext cx="576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6:32:59Z</dcterms:created>
  <dc:creator>rhawkes</dc:creator>
  <dc:description/>
  <dc:language>en-US</dc:language>
  <cp:lastModifiedBy>Richard Brake</cp:lastModifiedBy>
  <dcterms:modified xsi:type="dcterms:W3CDTF">2006-11-23T10:37:23Z</dcterms:modified>
  <cp:revision>1</cp:revision>
  <dc:subject/>
  <dc:title>Slide 1</dc:title>
</cp:coreProperties>
</file>